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412-9FC0-4A6C-A6E5-005E6EB9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6D5-EF85-4F66-8BF9-5568146D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4DB-8EF4-4947-9B50-65058911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319-E116-4FE8-A068-6BF8F88C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3FD-949C-46AF-A7D6-066DB28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B6E-B894-4A94-9333-6B0735D9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DE0-6E95-4745-89AD-0B9B7C8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084-D238-47E8-AF20-B8BD0FD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885-96D2-415F-878A-CA53B976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D80-ED05-4235-8098-26EC2F9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1DF-070E-4C10-A514-E97AE71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053-0D54-4408-AD3D-E82EB0E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98A7C-4AA5-496B-A4F7-1A63E4E2AC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shire_cat_bouncing_md_wht" descr=""/>
          <p:cNvPicPr/>
          <p:nvPr/>
        </p:nvPicPr>
        <p:blipFill>
          <a:blip r:embed=""/>
          <a:stretch/>
        </p:blipFill>
        <p:spPr>
          <a:xfrm>
            <a:off x="3325680" y="2519280"/>
            <a:ext cx="3875400" cy="465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00360" y="720720"/>
            <a:ext cx="54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99ff"/>
                </a:solidFill>
                <a:latin typeface="Arial Black"/>
              </a:rPr>
              <a:t>ATIREI O PAU NO GATO TO - 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itty2" descr=""/>
          <p:cNvPicPr/>
          <p:nvPr/>
        </p:nvPicPr>
        <p:blipFill>
          <a:blip r:embed=""/>
          <a:stretch/>
        </p:blipFill>
        <p:spPr>
          <a:xfrm>
            <a:off x="1579680" y="2496960"/>
            <a:ext cx="5621400" cy="522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079640"/>
            <a:ext cx="66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MAS O GATO NÃO MORREU  REU -R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ndma" descr=""/>
          <p:cNvPicPr/>
          <p:nvPr/>
        </p:nvPicPr>
        <p:blipFill>
          <a:blip r:embed=""/>
          <a:stretch/>
        </p:blipFill>
        <p:spPr>
          <a:xfrm>
            <a:off x="1079640" y="3240000"/>
            <a:ext cx="6840360" cy="575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360" y="720720"/>
            <a:ext cx="4140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DONA CHICA  ADMIROU -SE  SE -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440000"/>
            <a:ext cx="71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DO BERRO DO BERRO QUE O GATO DEU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79680" y="2879640"/>
            <a:ext cx="65167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79640" y="1619280"/>
            <a:ext cx="64389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MIAUUUUUUUUUUUUUUU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ATO%20RAPIDOif" descr=""/>
          <p:cNvPicPr/>
          <p:nvPr/>
        </p:nvPicPr>
        <p:blipFill>
          <a:blip r:embed=""/>
          <a:stretch/>
        </p:blipFill>
        <p:spPr>
          <a:xfrm>
            <a:off x="-225360" y="3862440"/>
            <a:ext cx="1066644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54:47Z</dcterms:created>
  <dc:creator/>
  <dc:description/>
  <dc:language>en-US</dc:language>
  <cp:lastModifiedBy/>
  <cp:revision>1</cp:revision>
  <dc:subject/>
  <dc:title/>
</cp:coreProperties>
</file>